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8AD8-5725-4178-9E9F-2E90E667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51C1-99CE-4F68-81FA-F501A7ED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454-A050-49DB-AFD1-9D3AA9E2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BC01-175C-4EAE-B8CC-E01E765A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C5A-AB5B-4BC5-9F96-12D9FD8B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FDC8-9053-4B70-A2AB-D52C93AB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525C-D6E4-43BE-BA39-368FABEB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C888-5BCC-4622-9671-53763380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0D7F-547C-4B7D-A7A0-A21E33CB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0ECD-18C3-41A7-9BBD-A4770D4A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45F4-EDE8-431C-8696-3576BF74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7EC-E354-47CF-82D1-D66C57BE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1200E-7E48-4682-9F6D-E1B3308D3B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hil.brunner@gmail.com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Materials: http://Cocoradio.Club/General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 Brunner AE7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hil.brunner@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28-556-8702 (home)  928-326-1254 (ce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6T05:53:09Z</dcterms:created>
  <dc:creator/>
  <dc:description/>
  <dc:language>en-US</dc:language>
  <cp:lastModifiedBy/>
  <dcterms:modified xsi:type="dcterms:W3CDTF">2018-05-26T05:59:30Z</dcterms:modified>
  <cp:revision>1</cp:revision>
  <dc:subject/>
  <dc:title/>
</cp:coreProperties>
</file>