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E90-A0F5-4796-8599-6461813E3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8EB1-EF9F-44D2-9A33-CBDBB18D7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A8F-3098-4075-AC70-1EEC5C507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nalog and digital multimeter available to illustrate the dif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215D-EF4C-4199-987E-BCEA9C07D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loading the circuit will cause measurement err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1BE6-69D6-493C-9639-08F00BC5E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older scopes use a CRT like an older TV.  New scopes use LCD technology like TVs and computer monitors. Some scopes use a PC for their dis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 “time base” is and if a scope is available, show the measuring graticule and gain/speed contr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5B2-43A3-4352-93BC-525F27D2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8B4C-84F2-4E41-A9EC-3CCE923E6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nalyzer available for demons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WR, impedance, and resonance measu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972D-50AA-4C85-AF5D-44DEC90E6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7BE9-C6A3-428C-ADF7-599BDDE2A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83C9-401B-452F-9DFB-8EB675B6C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1B2F-1A3B-404A-B606-5E0D965368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1F7F-4751-4F2F-A37E-A925035B96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8C24-BD9F-4A76-A86D-70708FF9F6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1955-8D04-48A6-98E1-84E256C0D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B9F-990F-4FA6-9F82-721863B4AA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AB9-37BD-44C9-95DC-5D6496EA73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226-94AE-4F44-B8D9-1695EFDD18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E0B-B0AD-45A0-B3DD-73B9A308DC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F7D-6108-4D9E-A2AC-EABE83071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08BD-55FF-405F-9601-CD22E2BBAB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B6B-9A9F-481F-8ABE-39BBCDEA1C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86C-47B1-4608-85AB-C590C086B2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A0E-0935-4675-AB86-3F6DF925AE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CE3-AE5D-4E96-A92B-8594220930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FA2-A8B2-4031-BEDF-70E2936ABC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167-8055-40B6-A8C8-25CC222005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472-4E5E-4E13-8DB0-52532F1D65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551F-937C-457B-81AC-924BD02B78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B0BC-EF6F-47D5-89CC-73CE880DBF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2AD9-F639-4DDB-ABDF-AE969F349A0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89D7-EC78-4D60-B9F8-BD0625011E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C303-4EE1-4988-B9EF-21AD281407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D9BF-E437-49DE-A500-FE8A471E22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19B2-072F-4C1D-8A03-5F9E22E54C8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Power Point Blend HORIZ GRAY copy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F85E-17F2-402D-B189-294698A2C22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ORIZ NO SCREENED DIAMO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eneral License Cour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apter 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sson Plan Module 16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ic Test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em of test equipment contains horizontal and vertical channel amplifi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n ohm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signal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n am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n 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an advantage of an oscilloscope versus a digital vol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n oscilloscope uses less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mplex impedances can be easily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nput impedance is much 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omplex waveforms can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an advantage of an oscilloscope versus a digital vol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n oscilloscope uses less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mplex impedances can be easily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nput impedance is much 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omplex waveforms can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the best instrument to use when checking the keying waveform of a CW transmi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n 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field strength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sidetone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 wave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the best instrument to use when checking the keying waveform of a CW transmi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n 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field strength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sidetone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 wave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ignal source is connected to the vertical input of an oscilloscope when checking the RF envelope pattern of a transmitted sig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local oscillator of the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B. An external RF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transmitter balanced mix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he attenuated RF output of the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ignal source is connected to the vertical input of an oscilloscope when checking the RF envelope pattern of a transmitted sig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local oscillator of the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B. An external RF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transmitter balanced mix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attenuated RF output of the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high input impedance desirable for a vol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t improves the 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t decreases battery consumption in the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t improves the resolution of the 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t decreases the loading on circuits being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high input impedance desirable for a vol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t improves the 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t decreases battery consumption in the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t improves the resolution of the 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t decreases the loading on circuits being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dvantage of a digital voltmeter as compared to an analog vol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etter for measuring computer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etter for RF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tter precision for most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Faste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alog &amp; Digital 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lt-ohm meter (VOM) is the simplest piece of test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s – volts, current,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s – continuity, diodes,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types of VOM – Analog and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og meters have a moving needle and calibrated scales on the meter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og meters are useful for finding a peak or minimum reading, such as when adjusting a tuned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D404-A2B2-4E50-9C31-5BA610906EA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dvantage of a digital voltmeter as compared to an analog vol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etter for measuring computer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etter for RF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Better precision for most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Faste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nstruments may be used to monitor relative RF output when making antenna and transmitter adjust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field strength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 antenna noise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mult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 Q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nstruments may be used to monitor relative RF output when making antenna and transmitter adjust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field strength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 antenna noise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mult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 Q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can be determined with a field strength 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radiation resistance of an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radiation pattern of an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presence and amount of phase distortion of a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he presence and amount of amplitude distortion of a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can be determined with a field strength 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radiation resistance of an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radiation pattern of an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presence and amount of phase distortion of a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he presence and amount of amplitude distortion of a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can be determined with a directional wat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tanding wa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tenna front-to-ba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F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Radio 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can be determined with a directional watt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tanding wa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tenna front-to-ba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F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Radio 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must be connected to an antenna analyzer when it is being used for SWR measu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ntenna and fe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se choic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must be connected to an antenna analyzer when it is being used for SWR measu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ntenna and fe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se choice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blem can occur when making measurements on an antenna system with an antenna analyz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ermanent damage to the analyzer may occur if it is operated into a high SW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trong signals from nearby transmitters can affect the accuracy of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analyzer can be damaged if measurements outside the ham bands are attem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onnecting the analyzer to an antenna can cause it to absorb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alog &amp; Digital 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meters (DDMs) offer significantly greater precision than analog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meters have useful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-ran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automatically select the proper display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ak ho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apture maximum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measuring voltage, the meter should have a high input impedance to place the minimum load on the circuit being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7F94-87DA-43E7-B056-4C023060047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blem can occur when making measurements on an antenna system with an antenna analyz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ermanent damage to the analyzer may occur if it is operated into a high SW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Strong signals from nearby transmitters can affect the accuracy of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analyzer can be damaged if measurements outside the ham bands are attem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onnecting the analyzer to an antenna can cause it to absorb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use for an antenna analyzer other than measuring the SWR of an antenna 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easuring the front to back ratio of an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asuring the turns ratio of a power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etermining the impedance of an unknown or unmarked coaxial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Determining the gain of a directional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use for an antenna analyzer other than measuring the SWR of an antenna 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easuring the front to back ratio of an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asuring the turns ratio of a power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etermining the impedance of an unknown or unmarked coaxial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Determining the gain of a directional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instance in which the use of an instrument with analog readout may be preferred over an instrument with a digital read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hen testing logic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When high precision i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hen measuring the frequency of an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hen adjusting tune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instance in which the use of an instrument with analog readout may be preferred over an instrument with a digital read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hen testing logic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When high precision i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hen measuring the frequency of an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When adjusting tune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0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cillo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oscilloscope (or “scope”) provides a visual display of voltage agains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dated rapidly enough to give a real-time picture of th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-changing complex waveforms can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al signals are connected to horizontal and vertical channel inputs to control the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 gain and update rates are available to display many types of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42AB-AB37-428A-ADBA-8393DC3E127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nitoring Oscillo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ransmitter’s attenuated output connects to the vertical channel of the oscilloscope to monitor the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itoring helps adjust keying waveforms, mic gain, and speech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cope shows the effects of any adjustments that might cause dist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cope provides information that numeric meters can’t m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4E8F-7A28-4319-A4C6-7D8F63E310B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mpedance &amp; Resonanc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antenna analy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ntains a CW signal generator, frequency counter, SWR bridge,  and impedance 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s to the antenna feed line to measure SWR using very small signals for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edance measurements show reso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s feed line velocity factor, electrical length, and characteristic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affected by strong nearby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671B-CBCE-4B36-ABAD-FCE0FA18691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0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eld Strength &amp; Power 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1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eld strength meters measure the electrical field of transmitted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eld strength meters can be used during antenna and transmitter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eld strength meters can be used to measure antenna radiation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ing wave ratio (SWR) can be measured from forward and reflected power measurements made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tional watt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54E-A8D4-45E1-88EF-6227F09CFDF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actic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em of test equipment contains horizontal and vertical channel amplifi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n ohm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signal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n am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n 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4B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2015 General License Cou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4:19:34Z</dcterms:created>
  <dc:creator>DSZLACHETKA</dc:creator>
  <dc:description/>
  <dc:language>en-US</dc:language>
  <cp:lastModifiedBy>Isakson, Karen W1KLI</cp:lastModifiedBy>
  <dcterms:modified xsi:type="dcterms:W3CDTF">2015-04-23T21:25:38Z</dcterms:modified>
  <cp:revision>98</cp:revision>
  <dc:subject/>
  <dc:title>PowerPoint Presentation</dc:title>
</cp:coreProperties>
</file>